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F587-C4D7-492F-BDEE-768AB2BE6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E32-3BB7-4467-B2C1-0B622A497B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083-F51E-4C3B-BD4F-B652A98421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91F4-F1FD-4F37-A094-1850C2A49C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432D-DA40-4EF0-AEA1-44485ABB3E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AE8A-301C-4FAC-950A-7D71B18B01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9473-2B8F-423E-B1E4-CF9D35570D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AFB9-6598-4A36-8E46-ACD4A23D9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13DA-24DA-4366-B54D-F18C9A7A9A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3A16-B0E9-4016-B8A6-950404F8F2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5B1E-2E16-4065-B39A-7C4672208A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941F-0651-4B4A-9323-EBC1437EC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6F8C-7FB9-403C-9FF1-97026BFA5F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7FE-4EAD-43B7-8BA8-3775F7FC31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50CB-1B7A-4057-B9CA-A66A975A21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B10E-5E11-4496-A21B-58182BF2D0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A2B5-A799-4BB7-A4A4-8B72F53466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B882-BF4B-4827-B909-730DCBA952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DE53-6CCB-48BB-B0DD-7AC7B8AB7E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2ED5-D0AD-4618-A051-AF8C584BA2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7B97-3C71-43F1-B4C4-DD631EB36B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06CD-FA78-49F9-A847-9DF8B03C8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0D4E-A84B-4DAC-B961-0CD91A3556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3483-5270-491D-A01F-8040EE7CB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3122-DEC1-42BA-B121-7A4C7DB47A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AE9-1FD1-49FE-A7EC-7097BA50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307-3C0A-4692-A7D9-149F4F2C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32B-17C1-4D12-829A-1EB63C3B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2EA-76A2-46FC-BDF6-42C2E976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DBAD-5518-46D2-889C-6C195B9C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31C0-DBA3-4563-8C0A-A6490F44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5E54-F099-43E6-B855-36118F2C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2D7E-B7AC-4D13-A73F-913675F4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B9F2-CEFC-47BA-AEAC-2BEFEF5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292D-655E-4227-AE3C-CAA3437A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63B1-B90B-4D63-BCCC-248D7F2E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612-C7E3-4C62-AA1B-340277E7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81A5-3CC0-4F64-AE6F-2F27CCCE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141B-DB78-42D0-BD56-9D94552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89C2-EE7A-4BE5-B357-696B7A1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0E01-A2FA-4117-B000-AD5F4399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9E72-EAE2-42EF-B94E-733F8F64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446-5F03-484A-A9BB-C0AA3FED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366-FFD5-4665-AEE7-A396ED16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E57-DDAA-4FDB-938F-48DE8CC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13A-AD6D-4827-8764-82CA6E3E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83B-9BFF-49A8-B68C-529566E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8C6-28CA-4830-94AC-D3C25376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BAD-1AD3-4E32-974D-60EBCCA4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369D-8A04-4883-A8D9-E23B22EA0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1585-220D-4157-B2F4-02F8F3BBC3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m/imgres?imgurl=http://www.union.edu/PUBLIC/GEODEPT/COURSES/geo-10/images/Scoria.jpeg&amp;imgrefurl=http://www.union.edu/PUBLIC/GEODEPT/COURSES/geo-10/igneous.htm&amp;h=211&amp;w=324&amp;sz=27&amp;hl=en&amp;start=4&amp;tbnid=qNklTvIv-fWFTM:&amp;tbnh=77&amp;tbnw=118&amp;prev=/images%3Fq%3Digneous%2Brocks%26svnum%3D10%26hl%3Den%26rls%3DHPIB,HPIB:2005-19,HPIB:en%26sa%3DN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learner.org/channel/courses/essential/earthspace/images/show5-brit-with-igneous.jpg&amp;imgrefurl=http://www.learner.org/channel/courses/essential/earthspace/session3/closer.html&amp;h=300&amp;w=300&amp;sz=28&amp;hl=en&amp;start=12&amp;tbnid=iEnzTA6MoGvW4M:&amp;tbnh=116&amp;tbnw=116&amp;prev=/images%3Fq%3Digneous%2Brocks%26svnum%3D10%26hl%3Den%26rls%3DHPIB,HPIB:2005-19,HPIB:en%26sa%3D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Rock Cyc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Kathy Pay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 the wax paper on the crayon sandwich and carefully place inside a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the book on the floor and have someone stand on it for 1 minute applying even greater pressure than bef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pressure, friction is creating some heat along with the heat from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now modeling the pressure that is applied when rocks are buried at greater depths inside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remove the crayon sandwich from the book.  Remove the top wax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a small piece of the crayon sandwich in Plate 3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represents a type of rock that is called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tamorphic Roc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means “to chang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7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0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mp the edges of a piece of aluminum foil to make a holder (boa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the remainder of the crayon sandwich on the aluminum foil without the wax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clothes pin as a hand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the next directions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!!!… Hot plates are hot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group will bring their item to be placed on the hotplat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the other groups are observing, you are to answer the following questions in your journal based on what you have observed so far during the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rocks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does it take rocks to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rocks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rocks forming right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n’t all rocks look the s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t from the hot plate represents the great temperatures that are found deep inside the Ear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lted crayons represent a product of melted rock material call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gma or lav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melted material to cool and ha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peel off the aluminum f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the material in Plate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represents a type of rock that is called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gneous R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means “fir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90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500"/>
                            </p:stCondLst>
                            <p:childTnLst>
                              <p:par>
                                <p:cTn id="392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93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your four plates in a circular shape in the order of their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four circles on your chart paper to represent the pl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2971800" y="3200400"/>
            <a:ext cx="3048120" cy="2666880"/>
            <a:chOff x="2971800" y="3200400"/>
            <a:chExt cx="3048120" cy="2666880"/>
          </a:xfrm>
        </p:grpSpPr>
        <p:sp>
          <p:nvSpPr>
            <p:cNvPr id="196" name="Oval 4"/>
            <p:cNvSpPr/>
            <p:nvPr/>
          </p:nvSpPr>
          <p:spPr>
            <a:xfrm>
              <a:off x="4114800" y="320040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5"/>
            <p:cNvSpPr/>
            <p:nvPr/>
          </p:nvSpPr>
          <p:spPr>
            <a:xfrm>
              <a:off x="4114800" y="495288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6"/>
            <p:cNvSpPr/>
            <p:nvPr/>
          </p:nvSpPr>
          <p:spPr>
            <a:xfrm>
              <a:off x="2971800" y="419112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>
              <a:off x="5181480" y="4038480"/>
              <a:ext cx="83844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ach circle draw, color and label the products that are on the plate located at that positio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imentary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orphic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neous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 the drawing with arrows to show a continuous recycling of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4724280" y="1981080"/>
            <a:ext cx="3048120" cy="2666880"/>
            <a:chOff x="4724280" y="1981080"/>
            <a:chExt cx="3048120" cy="2666880"/>
          </a:xfrm>
        </p:grpSpPr>
        <p:sp>
          <p:nvSpPr>
            <p:cNvPr id="203" name="Oval 5"/>
            <p:cNvSpPr/>
            <p:nvPr/>
          </p:nvSpPr>
          <p:spPr>
            <a:xfrm>
              <a:off x="5867280" y="198108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6"/>
            <p:cNvSpPr/>
            <p:nvPr/>
          </p:nvSpPr>
          <p:spPr>
            <a:xfrm>
              <a:off x="5867280" y="373356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7"/>
            <p:cNvSpPr/>
            <p:nvPr/>
          </p:nvSpPr>
          <p:spPr>
            <a:xfrm>
              <a:off x="4724280" y="297180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6933960" y="2819160"/>
              <a:ext cx="83844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Line 9"/>
          <p:cNvSpPr/>
          <p:nvPr/>
        </p:nvSpPr>
        <p:spPr>
          <a:xfrm>
            <a:off x="6705720" y="266688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H="1">
            <a:off x="6705360" y="373392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 flipV="1">
            <a:off x="5333760" y="3886200"/>
            <a:ext cx="5331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5105520" y="25146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diagram of the Rock Cycle, we will label the arrows to show the process that causes one type of rock to change into another type of r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will add the other arrows that show how rocks may change without going through entire cyc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le your drawing on the chart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4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a model of the rock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the model of a rock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rock cycle color"/>
          <p:cNvPicPr/>
          <p:nvPr/>
        </p:nvPicPr>
        <p:blipFill>
          <a:blip r:embed="rId1"/>
          <a:stretch/>
        </p:blipFill>
        <p:spPr>
          <a:xfrm>
            <a:off x="914400" y="171360"/>
            <a:ext cx="73152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di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weathering and erosion in Big Bend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dimentary R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Striped_Butte02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morphic R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0" descr="gneiss1"/>
          <p:cNvPicPr/>
          <p:nvPr/>
        </p:nvPicPr>
        <p:blipFill>
          <a:blip r:embed="rId1"/>
          <a:stretch/>
        </p:blipFill>
        <p:spPr>
          <a:xfrm>
            <a:off x="3886200" y="2940120"/>
            <a:ext cx="4495680" cy="3917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slate"/>
          <p:cNvPicPr/>
          <p:nvPr/>
        </p:nvPicPr>
        <p:blipFill>
          <a:blip r:embed="rId2"/>
          <a:stretch/>
        </p:blipFill>
        <p:spPr>
          <a:xfrm>
            <a:off x="457200" y="1760400"/>
            <a:ext cx="34290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gneous R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obsidian"/>
          <p:cNvPicPr/>
          <p:nvPr/>
        </p:nvPicPr>
        <p:blipFill>
          <a:blip r:embed="rId1"/>
          <a:stretch/>
        </p:blipFill>
        <p:spPr>
          <a:xfrm>
            <a:off x="6095880" y="1447920"/>
            <a:ext cx="2000520" cy="1743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cor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3733920"/>
            <a:ext cx="3276720" cy="2139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show5-brit-with-igneou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35812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granite1"/>
          <p:cNvPicPr/>
          <p:nvPr/>
        </p:nvPicPr>
        <p:blipFill>
          <a:blip r:embed="rId6"/>
          <a:stretch/>
        </p:blipFill>
        <p:spPr>
          <a:xfrm>
            <a:off x="990720" y="12952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rocks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does it take rocks to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rocks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rocks forming right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n’t all rocks look the s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se questions and more can be answered by learning about a cycle in nature called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cycle takes millions of years to occur, we will have to study a model to help us understand what happ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14600" y="2514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Rock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y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pl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x paper (2 she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stic knif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!!! The blade can cut skin, so be very care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es 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pencil sharpener to shave the crayons into a small c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breaking the crayons into smaller pieces, we  modeled the process called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ath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one pinch of each color in a pile on Plate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eces of crayon represent product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dime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one color of the crayon pieces to the center of a piece of wax pap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pile that covers about 6 cm by 6 cm in are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moving the sediments to a new location, you are modeling the proces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o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 new layer of crayons on top of the p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laying down the sediments, you are modeling the proces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pos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51920" y="68580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 the pile with another sheet of wax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place the wax paper &amp; crayons between two pieces of cardboar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 on the cardboard to apply even, vertical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modeling the pressure that is applied to the sediments after they are buried inside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 cardboards.  Carefully remove the wax paper from the crayon sandwic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a small amount of the material in Plate 2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represents a type of rock that i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dimentary r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t is made of sedi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2:12:26Z</dcterms:created>
  <dc:creator>g.w Carver</dc:creator>
  <dc:description/>
  <dc:language>en-US</dc:language>
  <cp:lastModifiedBy>dockensf</cp:lastModifiedBy>
  <dcterms:modified xsi:type="dcterms:W3CDTF">2010-07-17T11:13:05Z</dcterms:modified>
  <cp:revision>6</cp:revision>
  <dc:subject/>
  <dc:title>The Rock Cycle</dc:title>
</cp:coreProperties>
</file>